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77A0-821F-4C93-8644-91603B2E2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2CC9-2CFC-4591-88D4-64B39C5E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7477-EB6E-4768-B1D1-94016C1E5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DE1A-B7F7-4C5B-8953-0DB3828C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4CDE-D976-4CAC-81E3-86F8BCE4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5C89-4F3C-4780-8135-6EFDD355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EE8F-3607-4BDC-B143-7386839E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945E-599F-45B9-A6E2-EFC94D34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C30A-3118-412F-90EA-58E9E59E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4DF9-BE06-4FEC-8A9F-399EA453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DB73-0D59-4A89-9D75-D93C6389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BEEC-83AD-436C-B01C-73038254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85D9-EE37-470D-9B7B-AFB57AE4E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4000" y="1152360"/>
            <a:ext cx="5022720" cy="356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99"/>
                </a:solidFill>
                <a:latin typeface="Arial"/>
                <a:ea typeface="Arial"/>
              </a:rPr>
              <a:t>Ще те превъзнасям, Боже, Царю мо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99"/>
                </a:solidFill>
                <a:latin typeface="Arial"/>
                <a:ea typeface="Arial"/>
              </a:rPr>
              <a:t>и ще благославям името Ти днес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24400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21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4000" y="1268280"/>
            <a:ext cx="4734000" cy="2990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99"/>
                </a:solidFill>
                <a:latin typeface="Arial"/>
                <a:ea typeface="Arial"/>
              </a:rPr>
              <a:t>Всеки ден ще те благославя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99"/>
                </a:solidFill>
                <a:latin typeface="Arial"/>
                <a:ea typeface="Arial"/>
              </a:rPr>
              <a:t>и ще хваля името Ти вечно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4000" y="1152360"/>
            <a:ext cx="4878360" cy="356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99"/>
                </a:solidFill>
                <a:latin typeface="Bookman Old Style"/>
                <a:ea typeface="Arial"/>
              </a:rPr>
              <a:t>Ще те превъзнасям, Боже, Царю мо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99"/>
                </a:solidFill>
                <a:latin typeface="Bookman Old Style"/>
                <a:ea typeface="Arial"/>
              </a:rPr>
              <a:t>и ще благославям името Ти днес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4000" y="1152360"/>
            <a:ext cx="5022720" cy="356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99"/>
                </a:solidFill>
                <a:latin typeface="Arial"/>
                <a:ea typeface="Arial"/>
              </a:rPr>
              <a:t>Ще те превъзнасям, Боже, Царю мо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99"/>
                </a:solidFill>
                <a:latin typeface="Arial"/>
                <a:ea typeface="Arial"/>
              </a:rPr>
              <a:t>и ще благославям името Ти днес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000" y="1268280"/>
            <a:ext cx="4734000" cy="2990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99"/>
                </a:solidFill>
                <a:latin typeface="Arial"/>
                <a:ea typeface="Arial"/>
              </a:rPr>
              <a:t>Всеки ден ще те благославя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99"/>
                </a:solidFill>
                <a:latin typeface="Arial"/>
                <a:ea typeface="Arial"/>
              </a:rPr>
              <a:t>и ще хваля името Ти вечно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4000" y="1152360"/>
            <a:ext cx="4878360" cy="356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99"/>
                </a:solidFill>
                <a:latin typeface="Bookman Old Style"/>
                <a:ea typeface="Arial"/>
              </a:rPr>
              <a:t>Ще те превъзнасям, Боже, Царю мо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ff99"/>
                </a:solidFill>
                <a:latin typeface="Bookman Old Style"/>
                <a:ea typeface="Arial"/>
              </a:rPr>
              <a:t>и ще благославям името Ти днес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11:39:49Z</dcterms:created>
  <dc:creator>TrifonTrifonow</dc:creator>
  <dc:description/>
  <dc:language>en-US</dc:language>
  <cp:lastModifiedBy>TrifonTrifonow</cp:lastModifiedBy>
  <dcterms:modified xsi:type="dcterms:W3CDTF">2005-09-19T11:53:56Z</dcterms:modified>
  <cp:revision>5</cp:revision>
  <dc:subject/>
  <dc:title>Slide 1</dc:title>
</cp:coreProperties>
</file>